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D9E-150B-4D27-8DD3-4A33574C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896-E2B2-449C-9215-9B93644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8B0-246E-4F0B-AD53-03817B5A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27A-0A90-4387-AC8E-3C633F44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4D9-C1A9-4269-817D-98D1D6E5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236-7E4A-4413-9B68-A980ED9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085-8A0F-4E3B-90D7-3AC2637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AAE-1CE9-45F6-8BCF-9D4C490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6F9-AD8B-4751-B26E-BC5E1C9C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FCC-BDA2-420B-B8A3-A0C06791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6CE-DF6B-4213-A855-3BF3BE78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CC1-EB34-4E7D-8407-D51872F9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1A77-BE9C-447D-9F47-39AAA08AF91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Volcan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Volcanoe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re formed along two types of plate boundary: destructive and constructive boundari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asic shape of a volcano is similar throughout the world, however there are many factors which influence how the volcano is buil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occur where molten rock (magma) is allowed to escape to the surface of the earth. This usually occurs at plate boundaries through cracks in the crust calle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vent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ce it has reached the surface, the magma becomes known as lav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mposition of the lava determines the shape of the final volcan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also throw out ash, steam, dust, pumice, and gases, which can be poisonous. However it is the lava that mainly helps to shape the volcan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three main volcanic cones: acid lava cones, composite cones and basic lava con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cid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library.thinkquest.org/21988/volcano/images/acid.jpg"/>
          <p:cNvPicPr/>
          <p:nvPr/>
        </p:nvPicPr>
        <p:blipFill>
          <a:blip r:embed="rId1"/>
          <a:stretch/>
        </p:blipFill>
        <p:spPr>
          <a:xfrm>
            <a:off x="971640" y="1773360"/>
            <a:ext cx="7211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hield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cioly.org/w/images/e/e9/Slide19.jpg"/>
          <p:cNvPicPr/>
          <p:nvPr/>
        </p:nvPicPr>
        <p:blipFill>
          <a:blip r:embed="rId1"/>
          <a:stretch/>
        </p:blipFill>
        <p:spPr>
          <a:xfrm>
            <a:off x="900000" y="1268280"/>
            <a:ext cx="71755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posite C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orldlywise.pbworks.com/f/1272807397/composite%20volcano.jpg"/>
          <p:cNvPicPr/>
          <p:nvPr/>
        </p:nvPicPr>
        <p:blipFill>
          <a:blip r:embed="rId1"/>
          <a:stretch/>
        </p:blipFill>
        <p:spPr>
          <a:xfrm>
            <a:off x="982800" y="128592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4:50:33Z</dcterms:created>
  <dc:creator>Dell_02</dc:creator>
  <dc:description/>
  <dc:language>en-US</dc:language>
  <cp:lastModifiedBy>Dell_02</cp:lastModifiedBy>
  <dcterms:modified xsi:type="dcterms:W3CDTF">2011-01-26T05:05:30Z</dcterms:modified>
  <cp:revision>2</cp:revision>
  <dc:subject/>
  <dc:title>Volcanoes</dc:title>
</cp:coreProperties>
</file>